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F4B9-A634-4C71-811D-EB01E9C8F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B3C7-21C8-4A56-894B-A20E3B7762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7815-BC1B-47D6-BBA3-F520AFF019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BFF9-A2C2-4578-9097-C657955936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8857-AB6F-42AB-89DA-C35FCAE1C3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2093-EAFA-4447-BAB9-75416953CD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6CAD-70CB-4964-B8A7-3AC05DB331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8E7F-5218-4F31-9E3A-54C5BD8987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7CBA-93F8-4B4B-B197-4AA303E461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A2B2-7A62-4626-8092-0B4521F2DE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3432-8F9F-4CDE-8F47-7BC953D940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CFD1-7CE7-470C-9810-A030FAB4CE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909A-158D-4B01-A51B-BFA446F0CC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A057-6AE5-4F3E-88BA-A5650AA3F9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8015-DB14-4C53-BBA3-BE0F70AD2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F158-3D2B-455E-9A12-5E09127E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9B1D-667B-4CE0-B4DD-6B98BB77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631D-DB78-442F-9D57-F3A5E77F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9613-816A-4D0D-B615-B7EAF2B31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CFAF-E96B-400D-968F-1C033684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9BBC-784C-4144-B491-731F1146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A4DC-E1D4-40CA-9C72-B3266FED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DF54-EC4D-4885-A04C-D64FD40F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4510-43B0-4A8A-BA29-B644F296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4983-654C-48FF-9BA9-EEFF004E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4D81-0DED-49AB-B465-C9BEE340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EEC2-6C15-4D76-AE44-4CB6D794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1F8F-AB27-42B1-959C-8A0EBFEC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AC440-899D-4272-8C6A-060CB20E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1493-901A-479D-9A65-3C59A7B59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05A1-8717-4178-8193-7F7A32D8F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4097-BF51-4419-8FE6-A520A509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B098-6921-436A-B62B-4885FCF4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D365-DBE5-46B6-9726-62C216AE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C57D-E3CA-442B-B494-77736628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2B97-9BDD-4656-AE3C-C72A9684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01E0-C241-418E-AED5-15664009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2178-0F0B-441C-AB4F-222D209A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51BB-C30C-423C-8FE6-DE6C66D1C6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CFE6-9F11-428F-97C3-8467D925EC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3/Thor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14600" y="304920"/>
            <a:ext cx="701208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Myths, Legends, and </a:t>
            </a:r>
            <a:br>
              <a:rPr sz="6600"/>
            </a:b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Fairy Tales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0120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66"/>
                </a:solidFill>
                <a:latin typeface="Arial"/>
              </a:rPr>
              <a:t>Fairy Tales</a:t>
            </a:r>
            <a:endParaRPr b="0" lang="en-US" sz="9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 Fairy Tal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ictional sto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at may feature characters such as fairies, goblins, elves, trolls, witches, giants, or talking anim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ten involves a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r-fetch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equence of ev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7" descr="Image:Dore ridinghood.jpg"/>
          <p:cNvPicPr/>
          <p:nvPr/>
        </p:nvPicPr>
        <p:blipFill>
          <a:blip r:embed="rId1"/>
          <a:stretch/>
        </p:blipFill>
        <p:spPr>
          <a:xfrm>
            <a:off x="990720" y="1981080"/>
            <a:ext cx="3200400" cy="41148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1143000" y="6248520"/>
            <a:ext cx="289548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Little Red Riding Hood”  illustration by Gustave Dor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 Fairy Tal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usuall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t connec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religion or actual places, persons, or ev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take plac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"once upon a time"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ather than in actual ti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ld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airy tales were intended for adults as well as child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7" descr="Image:Redsun.jpg"/>
          <p:cNvPicPr/>
          <p:nvPr/>
        </p:nvPicPr>
        <p:blipFill>
          <a:blip r:embed="rId1"/>
          <a:stretch/>
        </p:blipFill>
        <p:spPr>
          <a:xfrm>
            <a:off x="1130400" y="1981080"/>
            <a:ext cx="3213000" cy="41148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8"/>
          <p:cNvSpPr/>
          <p:nvPr/>
        </p:nvSpPr>
        <p:spPr>
          <a:xfrm>
            <a:off x="1143000" y="6248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Ivan Bilibin’s illustration of the Russian fairy tale about “Vasilissa the Beautiful”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amous Fairy Ta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inderell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ittle Red Riding Ho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leeping Beau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now White and the Seven Dwarv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0120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66"/>
                </a:solidFill>
                <a:latin typeface="Arial"/>
              </a:rPr>
              <a:t>Myths</a:t>
            </a:r>
            <a:endParaRPr b="0" lang="en-US" sz="9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 Myth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 the Greek wor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ytho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eaning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"word of mouth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dely thought to b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ic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ern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rigins of the worl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r how the world and the creatures in it came to be in their present 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7" descr="Image:Tho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828800"/>
            <a:ext cx="3168360" cy="44197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914400" y="62485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Thor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, the god of Norse mythology. "Tors strid med jättarna" (1872), painting by Marten Eskil Winge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 Myth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lly are abou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ods and hero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often said to take plac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efore recorded history beg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early times, myths were considere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acr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religiously tru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7" descr="Medusa_by_Carvaggio"/>
          <p:cNvPicPr/>
          <p:nvPr/>
        </p:nvPicPr>
        <p:blipFill>
          <a:blip r:embed="rId1"/>
          <a:stretch/>
        </p:blipFill>
        <p:spPr>
          <a:xfrm>
            <a:off x="685800" y="2092320"/>
            <a:ext cx="3809880" cy="38908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8"/>
          <p:cNvSpPr/>
          <p:nvPr/>
        </p:nvSpPr>
        <p:spPr>
          <a:xfrm>
            <a:off x="762120" y="6019920"/>
            <a:ext cx="373356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Medusa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by Caravaggio, rotella (tournament shield). Oil on canvas mounted on wood, dated from 1592 to 1600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amous Myth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e Twelve Labors of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Hercu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heseu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escaping the labyrinth and killing the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inotau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reation Myths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om many cultures/religions around the wor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e snake-headed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Medus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0120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66"/>
                </a:solidFill>
                <a:latin typeface="Arial"/>
              </a:rPr>
              <a:t>Legends</a:t>
            </a:r>
            <a:endParaRPr b="0" lang="en-US" sz="9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 Legend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m the Latin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egend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aning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"things to be read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gends ar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elievab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although not necessarily belie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xaggera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tories of real people or events from his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7" descr="Image:Townsend Lloyd K - Atlantis.jpg"/>
          <p:cNvPicPr/>
          <p:nvPr/>
        </p:nvPicPr>
        <p:blipFill>
          <a:blip r:embed="rId1"/>
          <a:stretch/>
        </p:blipFill>
        <p:spPr>
          <a:xfrm>
            <a:off x="917640" y="1981080"/>
            <a:ext cx="3344760" cy="41148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914400" y="6172200"/>
            <a:ext cx="312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Atlantis” illustration by Lloyd K. Townsend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 Legend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419360" y="19810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gends are about someone wh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robabl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id exist but have been twisted to seem mor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nterest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ascin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e fabulous stories that hav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ome historical ba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ain characters in legends are ofte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spected and remember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by people, despite passing away several centuries a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7" descr="Image:Artus2.jpg"/>
          <p:cNvPicPr/>
          <p:nvPr/>
        </p:nvPicPr>
        <p:blipFill>
          <a:blip r:embed="rId1"/>
          <a:stretch/>
        </p:blipFill>
        <p:spPr>
          <a:xfrm>
            <a:off x="1447920" y="1981080"/>
            <a:ext cx="2449440" cy="41148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8"/>
          <p:cNvSpPr/>
          <p:nvPr/>
        </p:nvSpPr>
        <p:spPr>
          <a:xfrm>
            <a:off x="1219320" y="6248520"/>
            <a:ext cx="289548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King Arthur” by Peter Vischer in Hofkirche (Innsbruck)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amous Legend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ing Arthur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and the Knights of the Round T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obin Hood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robbing from the rich to give to the po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e legend of the lost city of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tlant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e quest for the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Holy Gra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19:24:59Z</dcterms:created>
  <dc:creator>Cody Edwards</dc:creator>
  <dc:description/>
  <dc:language>en-US</dc:language>
  <cp:lastModifiedBy>Angela Roundy</cp:lastModifiedBy>
  <dcterms:modified xsi:type="dcterms:W3CDTF">2008-10-11T06:35:08Z</dcterms:modified>
  <cp:revision>10</cp:revision>
  <dc:subject/>
  <dc:title>Myths, Legends, and Fairytales</dc:title>
</cp:coreProperties>
</file>